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EFB-7783-4E43-BCC1-41C74CA7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852-00D4-4889-827C-F5BC949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AD4-A836-4F8D-8168-FD22348B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403-8B30-45BE-8909-E27DFD72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6E2-2AFD-47E0-B918-397D405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31D-6A62-485B-823C-A16A18A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AB1-0FA6-4779-8867-A3062DB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D0C-A547-43D4-93C8-43B349B0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B3A-0A28-4926-B674-8440D44F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6D0-E2A8-4B73-9CF4-509B1AC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745-A754-4CB9-B6A9-2F2DBBF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874-ABC8-4388-89DB-503303B1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A0B5-A304-4BA8-9081-037390994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نتَ كُلُ مُبتَغاي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تَ يا يسو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حياة لي بدون حُبِكَ يسوع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066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396252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سأُكَرِسُ وأُقَدِمُ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كُلَ قلبي كُلَ فِكري   كُلَ ذهني كُلَ عقلي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لَ قوَتي وعزم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056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487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َبْني قوتاً حتى أستطيع    أن أَهِبَ من أَذان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َغفُرَ لِمَنْ عدا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ترُكُ الحُبَ الأناني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بُدَكَ يسوع،                أعبُدَكَ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12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6782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42670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ُلتَ إِسألوا       قلــتَ أُطــلبو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 أنا أطلُب  يا ربي طَهرَّني وافدي قلب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كاملاً أَسلُك في دربي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مَعْكَ يا يسوع، مَعْ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25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52:05Z</dcterms:created>
  <dc:creator>SUZANNE.MD</dc:creator>
  <dc:description/>
  <dc:language>en-US</dc:language>
  <cp:lastModifiedBy>HANI SAFI</cp:lastModifiedBy>
  <dcterms:modified xsi:type="dcterms:W3CDTF">2003-04-30T13:47:06Z</dcterms:modified>
  <cp:revision>2</cp:revision>
  <dc:subject/>
  <dc:title>PowerPoint Presentation</dc:title>
</cp:coreProperties>
</file>